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43A079-5F2A-4B56-82B7-BF23E5127D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D18E49-4943-4CD6-A372-135B8E1F2E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C001AB-6676-42AF-BC71-6F9F876ED7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3F9BC8-BE4F-4BC8-A85F-FE2FBBE747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E61C75-ABEF-4571-885D-F3767D8188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CCEE40-7542-4633-8B62-C9A66A97C6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F2D3C7-F13B-46F0-BF3E-8AE141C781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04DB3A-D35C-4658-8028-CC427AC52F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C1A529-848D-4AC8-A29B-9631BDC79E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7837A-77CA-4177-A4BE-BFA57B69E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673E8-E8B1-46C3-A577-08C87EF69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E45D4-397A-4616-922A-CE2985A74F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46ED1-E0DE-47E9-8C5A-2FD3229C92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749680" y="1563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42" name="p04_17859585" descr=""/>
          <p:cNvPicPr/>
          <p:nvPr/>
        </p:nvPicPr>
        <p:blipFill>
          <a:blip r:embed="rId1"/>
          <a:stretch/>
        </p:blipFill>
        <p:spPr>
          <a:xfrm>
            <a:off x="0" y="0"/>
            <a:ext cx="9144000" cy="5562720"/>
          </a:xfrm>
          <a:prstGeom prst="rect">
            <a:avLst/>
          </a:prstGeom>
          <a:ln w="0">
            <a:noFill/>
          </a:ln>
        </p:spPr>
      </p:pic>
      <p:sp>
        <p:nvSpPr>
          <p:cNvPr id="43" name=""/>
          <p:cNvSpPr/>
          <p:nvPr/>
        </p:nvSpPr>
        <p:spPr>
          <a:xfrm>
            <a:off x="0" y="5353920"/>
            <a:ext cx="9144000" cy="1283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ea typeface="Times New Roman"/>
              </a:rPr>
              <a:t>The crew of the hijacked Ukrainian merchant vessel MV Faina stand on the deck, under the watch of armed Somali pirates on November 9 after a US Navy request to check on their health and welfare, at sea off the coast of Somali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5638680"/>
            <a:ext cx="91440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Search and seizure team members from the guided-missile cruiser USS Vella Gulf close in to apprehend suspected pirates in the Gulf of Aden February 12, 2009.</a:t>
            </a:r>
            <a:endParaRPr b="0" lang="en-US" sz="2000" spc="-1" strike="noStrike">
              <a:solidFill>
                <a:srgbClr val="000000"/>
              </a:solidFill>
              <a:latin typeface="Arial"/>
            </a:endParaRPr>
          </a:p>
        </p:txBody>
      </p:sp>
      <p:pic>
        <p:nvPicPr>
          <p:cNvPr id="62" name="" descr=""/>
          <p:cNvPicPr/>
          <p:nvPr/>
        </p:nvPicPr>
        <p:blipFill>
          <a:blip r:embed="rId1"/>
          <a:stretch/>
        </p:blipFill>
        <p:spPr>
          <a:xfrm>
            <a:off x="0" y="0"/>
            <a:ext cx="9144000" cy="5638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0" y="548604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A French Atlantic plane passes over the French Frigate Le Floreal of the EPE (Embedded Protection Team), in the Gulf of Aden on January 10, 2009, as they escort a Danish ship with sensitive freight, off the coast of Djibouti, as part of an assignment to escort commercial ships in this area.</a:t>
            </a:r>
            <a:endParaRPr b="0" lang="en-US" sz="2000" spc="-1" strike="noStrike">
              <a:solidFill>
                <a:srgbClr val="000000"/>
              </a:solidFill>
              <a:latin typeface="Arial"/>
            </a:endParaRPr>
          </a:p>
        </p:txBody>
      </p:sp>
      <p:pic>
        <p:nvPicPr>
          <p:cNvPr id="45" name="" descr=""/>
          <p:cNvPicPr/>
          <p:nvPr/>
        </p:nvPicPr>
        <p:blipFill>
          <a:blip r:embed="rId1"/>
          <a:stretch/>
        </p:blipFill>
        <p:spPr>
          <a:xfrm>
            <a:off x="0" y="0"/>
            <a:ext cx="9144000" cy="5257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15_18176731" descr=""/>
          <p:cNvPicPr/>
          <p:nvPr/>
        </p:nvPicPr>
        <p:blipFill>
          <a:blip r:embed="rId1"/>
          <a:stretch/>
        </p:blipFill>
        <p:spPr>
          <a:xfrm>
            <a:off x="0" y="-19080"/>
            <a:ext cx="9144000" cy="4362480"/>
          </a:xfrm>
          <a:prstGeom prst="rect">
            <a:avLst/>
          </a:prstGeom>
          <a:ln w="0">
            <a:noFill/>
          </a:ln>
        </p:spPr>
      </p:pic>
      <p:sp>
        <p:nvSpPr>
          <p:cNvPr id="47" name="PlaceHolder 1"/>
          <p:cNvSpPr>
            <a:spLocks noGrp="1"/>
          </p:cNvSpPr>
          <p:nvPr>
            <p:ph type="title"/>
          </p:nvPr>
        </p:nvSpPr>
        <p:spPr>
          <a:xfrm>
            <a:off x="0" y="4266720"/>
            <a:ext cx="9144000" cy="2590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Bundeswehr soldiers approaching pirates in the Gulf of Aden off Somalia on March 3, 2009, after frigate Rheinland-Pfalz (background) had received a distress call from a German-owned container ship saying she was under fire from pirates armed with bazookas and machine guns. The frigate then dispatched a helicopter which together with another chopper from the US naval ship Monterey stopped the attempted attack by firing warning shots. German soldiers boarded the pirate vessel and took the nine into custody, the German military said.</a:t>
            </a:r>
            <a:endParaRPr b="0" lang="en-US" sz="2000" spc="-1" strike="noStrike">
              <a:solidFill>
                <a:srgbClr val="000000"/>
              </a:solidFill>
              <a:latin typeface="Arial"/>
            </a:endParaRPr>
          </a:p>
        </p:txBody>
      </p:sp>
      <p:sp>
        <p:nvSpPr>
          <p:cNvPr id="48" name=""/>
          <p:cNvSpPr/>
          <p:nvPr/>
        </p:nvSpPr>
        <p:spPr>
          <a:xfrm>
            <a:off x="0" y="1576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4648320"/>
            <a:ext cx="91440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The Belize flagged MV Faina is escorted by a Kenyan port authority tug vessel into the port of Mombasa, Kenya on February 12, 2009, after it was released by Somali pirates a week ago. It arrived in Mombasa amid a raging controversy over its cargo of battle tanks and ammunition. While Kenya has always said the shipment was for its armed forces, several experts and diplomats in the region have revealed it was in fact destined to the government of South Sudan and was the fifth delivery of its kind in less than two years.</a:t>
            </a:r>
            <a:endParaRPr b="0" lang="en-US" sz="2000" spc="-1" strike="noStrike">
              <a:solidFill>
                <a:srgbClr val="000000"/>
              </a:solidFill>
              <a:latin typeface="Arial"/>
            </a:endParaRPr>
          </a:p>
        </p:txBody>
      </p:sp>
      <p:pic>
        <p:nvPicPr>
          <p:cNvPr id="50" name="" descr=""/>
          <p:cNvPicPr/>
          <p:nvPr/>
        </p:nvPicPr>
        <p:blipFill>
          <a:blip r:embed="rId1"/>
          <a:stretch/>
        </p:blipFill>
        <p:spPr>
          <a:xfrm>
            <a:off x="0" y="-533520"/>
            <a:ext cx="9144000" cy="5181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5105160"/>
            <a:ext cx="91440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File picture dated April 22, 2008 shows Yemeni coast guards on standby next to the damaged Japanese tanker Takayama, that was attacked by pirates following its arrival in the southern Yemeni port of Aden. Half of the its members don't know how to swim and they don't have enough boats, leaving Yemen's coast guards struggling to meet the enormous maritime challenges facing one of the world's poorest nations; piracy.</a:t>
            </a:r>
            <a:endParaRPr b="0" lang="en-US" sz="2000" spc="-1" strike="noStrike">
              <a:solidFill>
                <a:srgbClr val="000000"/>
              </a:solidFill>
              <a:latin typeface="Arial"/>
            </a:endParaRPr>
          </a:p>
        </p:txBody>
      </p:sp>
      <p:pic>
        <p:nvPicPr>
          <p:cNvPr id="52" name="" descr=""/>
          <p:cNvPicPr/>
          <p:nvPr/>
        </p:nvPicPr>
        <p:blipFill>
          <a:blip r:embed="rId1"/>
          <a:stretch/>
        </p:blipFill>
        <p:spPr>
          <a:xfrm>
            <a:off x="0" y="0"/>
            <a:ext cx="9144000" cy="4916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33160" y="5866920"/>
            <a:ext cx="8458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Suspected Somali pirates are seen after they were captured by Marine commandos of the French Navy in the Gulf of Aden, off Somalia's coast Thursday Jan. 29, 2009.</a:t>
            </a:r>
            <a:endParaRPr b="0" lang="en-US" sz="2000" spc="-1" strike="noStrike">
              <a:solidFill>
                <a:srgbClr val="000000"/>
              </a:solidFill>
              <a:latin typeface="Arial"/>
            </a:endParaRPr>
          </a:p>
        </p:txBody>
      </p:sp>
      <p:pic>
        <p:nvPicPr>
          <p:cNvPr id="54" name="" descr=""/>
          <p:cNvPicPr/>
          <p:nvPr/>
        </p:nvPicPr>
        <p:blipFill>
          <a:blip r:embed="rId1"/>
          <a:stretch/>
        </p:blipFill>
        <p:spPr>
          <a:xfrm>
            <a:off x="0" y="0"/>
            <a:ext cx="9144000" cy="5867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54097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Seven Somalian pirates are led to court by Kenyan police officers on March 6, 2009 at the port town of Mombasa, Kenya. US Naval vessel VSS Leyte Gulf intercepted last month the pirates off the Somalian coast as they attempted to board a merchant vessel.</a:t>
            </a:r>
            <a:endParaRPr b="0" lang="en-US" sz="2000" spc="-1" strike="noStrike">
              <a:solidFill>
                <a:srgbClr val="000000"/>
              </a:solidFill>
              <a:latin typeface="Arial"/>
            </a:endParaRPr>
          </a:p>
        </p:txBody>
      </p:sp>
      <p:pic>
        <p:nvPicPr>
          <p:cNvPr id="56" name="" descr=""/>
          <p:cNvPicPr/>
          <p:nvPr/>
        </p:nvPicPr>
        <p:blipFill>
          <a:blip r:embed="rId1"/>
          <a:stretch/>
        </p:blipFill>
        <p:spPr>
          <a:xfrm>
            <a:off x="0" y="0"/>
            <a:ext cx="9144000" cy="5349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5349960"/>
          </a:xfrm>
          <a:prstGeom prst="rect">
            <a:avLst/>
          </a:prstGeom>
          <a:ln w="0">
            <a:noFill/>
          </a:ln>
        </p:spPr>
      </p:pic>
      <p:sp>
        <p:nvSpPr>
          <p:cNvPr id="58" name="PlaceHolder 1"/>
          <p:cNvSpPr>
            <a:spLocks noGrp="1"/>
          </p:cNvSpPr>
          <p:nvPr>
            <p:ph type="title"/>
          </p:nvPr>
        </p:nvSpPr>
        <p:spPr>
          <a:xfrm>
            <a:off x="0" y="5409720"/>
            <a:ext cx="91440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Commandos from French frigate Le Floreal arrest nine Somali pirates in the Gulf of Aden in this January 27, 2009 photo released on Wednesday by the French Navy. As foreign navies fight increasingly brazen gangs that hijack commercial vessels in busy shipping lanes. France has captured 57 pirates in seven such operations since last April.</a:t>
            </a:r>
            <a:r>
              <a:rPr b="0" lang="en"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80520" y="4800240"/>
            <a:ext cx="853452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A parachute dropped by a small aircraft is observed by the U.S. Navy as it drops over the MV Sirius Star during an apparent payment via a parachuted container to pirates holding the Sirius Star off the coast of Somalia, January 9, 2009. Somali pirates then freed the Saudi supertanker seized in the world's biggest ship hijacking for a $3 million ransom - but five drowned when their boat capsized as they were making off with their share.</a:t>
            </a:r>
            <a:endParaRPr b="0" lang="en-US" sz="2000" spc="-1" strike="noStrike">
              <a:solidFill>
                <a:srgbClr val="000000"/>
              </a:solidFill>
              <a:latin typeface="Arial"/>
            </a:endParaRPr>
          </a:p>
        </p:txBody>
      </p:sp>
      <p:pic>
        <p:nvPicPr>
          <p:cNvPr id="60" name="" descr=""/>
          <p:cNvPicPr/>
          <p:nvPr/>
        </p:nvPicPr>
        <p:blipFill>
          <a:blip r:embed="rId1"/>
          <a:stretch/>
        </p:blipFill>
        <p:spPr>
          <a:xfrm>
            <a:off x="0" y="0"/>
            <a:ext cx="9144000" cy="4724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5T15:06:28Z</dcterms:created>
  <dc:creator>ws12094</dc:creator>
  <dc:description/>
  <dc:language>en-US</dc:language>
  <cp:lastModifiedBy>ws12094</cp:lastModifiedBy>
  <dcterms:modified xsi:type="dcterms:W3CDTF">2009-05-05T15:36:14Z</dcterms:modified>
  <cp:revision>2</cp:revision>
  <dc:subject/>
  <dc:title>Slide 1</dc:title>
</cp:coreProperties>
</file>